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2D45-6E31-46CB-9771-23A9824BB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537A-25BE-4E70-9883-CD9C8BDA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D71C-D254-4047-9C20-9DD71802C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3EE7-E6E9-491F-9876-5B63E8D9D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D425-C4C6-4168-B624-2CF45B8D7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6F7B-3BBA-443D-A71A-EEB4467D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F5552-8505-4D3F-9F66-552C4D33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9BE1-3F74-4D6E-9A7A-FCD11A11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6EF8-B277-48BD-B0CA-6E3A62F1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3CE0-6F3A-43A8-9F1B-F5BC2155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0944B-B316-4837-816F-A6EB7CCA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212D-6ABE-4666-855B-A6D5380B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5D80B-A30B-44D0-A74A-93FE9DEC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06455-C191-4EE1-83D8-E0EE9797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2665-D899-4C45-9703-952347CB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1D37-DF0F-4DB2-97E4-65AD0F098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9104A-F342-4D84-A901-037E0DA67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40FC6-E02B-4D05-AE9C-2D95B25F3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1925E-F82A-4B20-B768-0FBD0E33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60641-F521-4E56-8371-D69181AE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7BA45-9AF0-40AC-98E9-16AB3EDB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FDBDC-DA56-4AB6-9001-F383F98E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2AD7-F9A7-4FB2-96E3-22FF3AE2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CD57D-5981-4D66-8BB5-950EA410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44E09-9611-4627-8CCD-A79EFB49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C0D5D-44E0-45A0-BBDD-A708B838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BCAC3-7768-45DF-BAC8-FF7E825F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2F253-D0E9-404F-BE9A-31EF498F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9F27F-E354-4EF4-AE0E-A6217DCA5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56E86-FCA9-4352-B8C3-C7D44DFBF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98B99-37B1-40B9-9796-B25133128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9BB16-0C97-4BCD-811F-D6E7AA96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62164-D869-4FEB-8CE6-CB63C6C1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B79F-9AA8-40AF-B757-A5305DCE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BB6CA-8677-481B-8046-706477F5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D757F-8D7E-4231-BFAA-2B096262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9086E-97BD-4503-B195-43854AA0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EFA5B-35F8-4C2C-B0C2-5E43B196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F9002-3EA7-4113-974C-B2DC1B24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F33C7-AAE9-467E-9762-0A8DA3B2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B8590-9002-402F-BFA8-22847CB8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7AE4D-AC11-47AA-A469-B6EE21FAB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C3AF8-8684-4385-8DAA-B27FB3362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3E70F-5C60-4D8D-B5B4-2BBD1670E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F6CA-1D81-4386-9670-F3459588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DF291-42E5-47CA-B3A9-057F971A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C15E7-B448-40EA-821C-ED2D01FA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67108-7394-4A70-A939-42EE9AB3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FBDB0-08A6-4F00-B0CD-2DEBC0B3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3F33F-CC39-4571-BA73-396B5808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58951-F402-453B-90C2-75426FBC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C3E24-52BD-4B04-A235-8BC3F6D7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DF215-E8B3-4455-A268-7EFFA586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6C81C-D55D-473A-A530-B42AB2E8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52E06-54C6-4D45-AD92-9C29F3CF7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AD73-4C30-477C-B3DB-EABA97EA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AC89E-5158-45E9-8E65-75745C6AE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C037-F8A0-4E43-BE8B-BA4D1372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F18E-D157-4992-9940-59337DE6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DC80-4A34-42AC-9244-D44F98E9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1223-F550-490E-BD55-7BF4596A4E62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42DE-61B5-4F27-B83B-FBA8C9927474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4110-DA12-4D38-B8CB-C4851951FD2F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53F3-85CA-4533-BD32-AD3F7CCECE4C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E6AB-4692-4A57-BBCA-1F20CEE040F7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How can we stop it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reate a power point that summarizes what you have learned about bullying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efine what bullying i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Picture 2" descr="C:\Documents and Settings\prelib\Local Settings\Temporary Internet Files\Content.IE5\C8ISIV8L\MC900088740[1].wmf"/>
          <p:cNvPicPr/>
          <p:nvPr/>
        </p:nvPicPr>
        <p:blipFill>
          <a:blip r:embed="rId2"/>
          <a:stretch/>
        </p:blipFill>
        <p:spPr>
          <a:xfrm rot="702000">
            <a:off x="5486400" y="3047760"/>
            <a:ext cx="1770120" cy="17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ist ideas or suggestions for your read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o/don’t d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Picture 2" descr="C:\Documents and Settings\prelib\Local Settings\Temporary Internet Files\Content.IE5\36G5VXSG\MP900448485[1].jpg"/>
          <p:cNvPicPr/>
          <p:nvPr/>
        </p:nvPicPr>
        <p:blipFill>
          <a:blip r:embed="rId2"/>
          <a:stretch/>
        </p:blipFill>
        <p:spPr>
          <a:xfrm>
            <a:off x="4800600" y="1447920"/>
            <a:ext cx="2997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ctions or behaviors you will try to d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ummarize what your slide show is all about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12:58:44Z</dcterms:created>
  <dc:creator>techadmin</dc:creator>
  <dc:description/>
  <dc:language>en-US</dc:language>
  <cp:lastModifiedBy>techadmin</cp:lastModifiedBy>
  <dcterms:modified xsi:type="dcterms:W3CDTF">2010-11-08T14:16:04Z</dcterms:modified>
  <cp:revision>4</cp:revision>
  <dc:subject/>
  <dc:title>Bullying</dc:title>
</cp:coreProperties>
</file>